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D3B-F8D2-4CB1-8C37-D036CFAD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0D3-5A7F-4DDB-986D-CAB5F025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185-B3CF-4EE3-A6DA-6612DA70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2F7-464F-4958-A0B1-AAEE5F5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E11-FC1D-4812-ADCE-8A6C1C4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454-798C-4C95-B491-8F38D42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CBA-46B6-40C6-8D79-B1D935A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F28-01C7-4354-A098-4E819C5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DB5-483F-42DD-875D-A41FB714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5A-A6D2-4320-BE64-B3E7E57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A8C-9BCA-4C3B-B063-3863D7D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1F0-1953-4903-AA00-91ABDD0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Объект 2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9B8-80C8-42B2-B4BF-4D46DE0AE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8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431120" y="4573440"/>
            <a:ext cx="1712880" cy="228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9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7637400" y="5397480"/>
            <a:ext cx="1104840" cy="277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7548840" y="5788080"/>
            <a:ext cx="152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артнеры для ро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12"/>
          <p:cNvGrpSpPr/>
          <p:nvPr/>
        </p:nvGrpSpPr>
        <p:grpSpPr>
          <a:xfrm>
            <a:off x="9104400" y="-57240"/>
            <a:ext cx="2859120" cy="6915600"/>
            <a:chOff x="9104400" y="-57240"/>
            <a:chExt cx="2859120" cy="6915600"/>
          </a:xfrm>
        </p:grpSpPr>
        <p:sp>
          <p:nvSpPr>
            <p:cNvPr id="48" name="Прямоугольник 13"/>
            <p:cNvSpPr/>
            <p:nvPr/>
          </p:nvSpPr>
          <p:spPr>
            <a:xfrm>
              <a:off x="9180360" y="0"/>
              <a:ext cx="2783160" cy="6858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комендаци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 оформлению слай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ТЕКС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64960" indent="-8712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Корп.шрифт для презентаций – </a:t>
              </a:r>
              <a:br>
                <a:rPr sz="800"/>
              </a:b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rial</a:t>
              </a: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r>
                <a:rPr b="0" i="1" lang="ru-RU" sz="800" spc="-1" strike="noStrike">
                  <a:solidFill>
                    <a:srgbClr val="ffffff"/>
                  </a:solidFill>
                  <a:latin typeface="Arial"/>
                </a:rPr>
                <a:t>допустимо:</a:t>
              </a: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rial Narrow</a:t>
              </a: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64960" indent="-8712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Заголовок слайда –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не ниже 16 п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64960" indent="-8712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Текст на слайде –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не ниже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п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64960" indent="-8712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Примечания –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не ниже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п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64960" indent="-87120">
                <a:lnSpc>
                  <a:spcPct val="100000"/>
                </a:lnSpc>
                <a:spcAft>
                  <a:spcPts val="7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спользуйте на слайде </a:t>
              </a:r>
              <a:br>
                <a:rPr sz="800"/>
              </a:b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не более 3 размеров шрифт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spcAft>
                  <a:spcPts val="201"/>
                </a:spcAft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спользуйте единый стиль оформления диаграм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спользуйте шрифты одинакового размера в диаграммах, располагающихся на одном слайд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7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На одном слайде – не более 4 диаграм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spcAft>
                  <a:spcPts val="201"/>
                </a:spcAft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ИКОН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7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Выбирайте оформление </a:t>
              </a:r>
              <a:br>
                <a:rPr sz="800"/>
              </a:b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конок в едином стил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spcAft>
                  <a:spcPts val="201"/>
                </a:spcAft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ИЗОБРАЖ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Нельзя искажать пропор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7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Рекомендуемое разрешение – </a:t>
              </a:r>
              <a:br>
                <a:rPr sz="800"/>
              </a:b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не более 150 пикселей на дюй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spcAft>
                  <a:spcPts val="201"/>
                </a:spcAft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БЩИЕ РЕКОМЕНДАЦ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Скажите «нет» презентациям </a:t>
              </a:r>
              <a:br>
                <a:rPr sz="800"/>
              </a:b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с большим количеством текст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спользуйте простые схемы </a:t>
              </a:r>
              <a:br>
                <a:rPr sz="800"/>
              </a:b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и график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2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Делайте слайды лаконичны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4960" indent="-79200">
                <a:lnSpc>
                  <a:spcPct val="100000"/>
                </a:lnSpc>
                <a:spcAft>
                  <a:spcPts val="300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4"/>
            <p:cNvSpPr/>
            <p:nvPr/>
          </p:nvSpPr>
          <p:spPr>
            <a:xfrm>
              <a:off x="9753120" y="592200"/>
              <a:ext cx="2051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Группа 15"/>
            <p:cNvGrpSpPr/>
            <p:nvPr/>
          </p:nvGrpSpPr>
          <p:grpSpPr>
            <a:xfrm>
              <a:off x="9104400" y="-57240"/>
              <a:ext cx="665280" cy="6874920"/>
              <a:chOff x="9104400" y="-57240"/>
              <a:chExt cx="665280" cy="6874920"/>
            </a:xfrm>
          </p:grpSpPr>
          <p:sp>
            <p:nvSpPr>
              <p:cNvPr id="51" name="Прямоугольник 16"/>
              <p:cNvSpPr/>
              <p:nvPr/>
            </p:nvSpPr>
            <p:spPr>
              <a:xfrm>
                <a:off x="9248760" y="204480"/>
                <a:ext cx="376560" cy="582480"/>
              </a:xfrm>
              <a:prstGeom prst="rect">
                <a:avLst/>
              </a:prstGeom>
              <a:solidFill>
                <a:srgbClr val="008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1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4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Прямоугольник 17"/>
              <p:cNvSpPr/>
              <p:nvPr/>
            </p:nvSpPr>
            <p:spPr>
              <a:xfrm>
                <a:off x="9248760" y="1164960"/>
                <a:ext cx="376560" cy="58392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20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20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20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оугольник 18"/>
              <p:cNvSpPr/>
              <p:nvPr/>
            </p:nvSpPr>
            <p:spPr>
              <a:xfrm>
                <a:off x="9248760" y="5106600"/>
                <a:ext cx="376560" cy="582480"/>
              </a:xfrm>
              <a:prstGeom prst="rect">
                <a:avLst/>
              </a:prstGeom>
              <a:solidFill>
                <a:srgbClr val="e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2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2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2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Прямоугольник 19"/>
              <p:cNvSpPr/>
              <p:nvPr/>
            </p:nvSpPr>
            <p:spPr>
              <a:xfrm>
                <a:off x="9248760" y="3358800"/>
                <a:ext cx="376560" cy="582480"/>
              </a:xfrm>
              <a:prstGeom prst="rect">
                <a:avLst/>
              </a:prstGeom>
              <a:solidFill>
                <a:srgbClr val="b2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17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2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2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Прямоугольник 20"/>
              <p:cNvSpPr/>
              <p:nvPr/>
            </p:nvSpPr>
            <p:spPr>
              <a:xfrm>
                <a:off x="9248760" y="3941280"/>
                <a:ext cx="376560" cy="5824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25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ольник 21"/>
              <p:cNvSpPr/>
              <p:nvPr/>
            </p:nvSpPr>
            <p:spPr>
              <a:xfrm>
                <a:off x="9248760" y="4524120"/>
                <a:ext cx="376560" cy="582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19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Прямоугольник 22"/>
              <p:cNvSpPr/>
              <p:nvPr/>
            </p:nvSpPr>
            <p:spPr>
              <a:xfrm>
                <a:off x="9248760" y="5689080"/>
                <a:ext cx="376560" cy="225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0,0,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Прямоугольник 23"/>
              <p:cNvSpPr/>
              <p:nvPr/>
            </p:nvSpPr>
            <p:spPr>
              <a:xfrm>
                <a:off x="9248760" y="784080"/>
                <a:ext cx="376560" cy="58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61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ольник 24"/>
              <p:cNvSpPr/>
              <p:nvPr/>
            </p:nvSpPr>
            <p:spPr>
              <a:xfrm>
                <a:off x="9248760" y="1363320"/>
                <a:ext cx="376560" cy="582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119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226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19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оугольник 25"/>
              <p:cNvSpPr/>
              <p:nvPr/>
            </p:nvSpPr>
            <p:spPr>
              <a:xfrm>
                <a:off x="9248760" y="5106600"/>
                <a:ext cx="376560" cy="582480"/>
              </a:xfrm>
              <a:prstGeom prst="rect">
                <a:avLst/>
              </a:prstGeom>
              <a:solidFill>
                <a:srgbClr val="2d32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4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13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оугольник 26"/>
              <p:cNvSpPr/>
              <p:nvPr/>
            </p:nvSpPr>
            <p:spPr>
              <a:xfrm>
                <a:off x="9248760" y="1953720"/>
                <a:ext cx="376560" cy="58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5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5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5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ольник 27"/>
              <p:cNvSpPr/>
              <p:nvPr/>
            </p:nvSpPr>
            <p:spPr>
              <a:xfrm>
                <a:off x="9248760" y="3358800"/>
                <a:ext cx="376560" cy="582480"/>
              </a:xfrm>
              <a:prstGeom prst="rect">
                <a:avLst/>
              </a:prstGeom>
              <a:solidFill>
                <a:srgbClr val="fab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2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1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262626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Прямоугольник 28"/>
              <p:cNvSpPr/>
              <p:nvPr/>
            </p:nvSpPr>
            <p:spPr>
              <a:xfrm>
                <a:off x="9248760" y="3941280"/>
                <a:ext cx="376560" cy="582480"/>
              </a:xfrm>
              <a:prstGeom prst="rect">
                <a:avLst/>
              </a:prstGeom>
              <a:solidFill>
                <a:srgbClr val="008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ru-RU" sz="7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Прямоугольник 29"/>
              <p:cNvSpPr/>
              <p:nvPr/>
            </p:nvSpPr>
            <p:spPr>
              <a:xfrm>
                <a:off x="9248760" y="4524120"/>
                <a:ext cx="376560" cy="582480"/>
              </a:xfrm>
              <a:prstGeom prst="rect">
                <a:avLst/>
              </a:prstGeom>
              <a:solidFill>
                <a:srgbClr val="fa7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1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1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оугольник 30"/>
              <p:cNvSpPr/>
              <p:nvPr/>
            </p:nvSpPr>
            <p:spPr>
              <a:xfrm>
                <a:off x="9248760" y="2555640"/>
                <a:ext cx="376560" cy="583920"/>
              </a:xfrm>
              <a:prstGeom prst="rect">
                <a:avLst/>
              </a:prstGeom>
              <a:solidFill>
                <a:srgbClr val="2d2d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224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78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5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31"/>
              <p:cNvSpPr/>
              <p:nvPr/>
            </p:nvSpPr>
            <p:spPr>
              <a:xfrm>
                <a:off x="9104400" y="-5724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ffffff"/>
                    </a:solidFill>
                    <a:latin typeface="Arial"/>
                  </a:rPr>
                  <a:t>Основные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32"/>
              <p:cNvSpPr/>
              <p:nvPr/>
            </p:nvSpPr>
            <p:spPr>
              <a:xfrm>
                <a:off x="9105840" y="3093840"/>
                <a:ext cx="662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ffffff"/>
                    </a:solidFill>
                    <a:latin typeface="Arial"/>
                  </a:rPr>
                  <a:t>Доп.цвета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оугольник 33"/>
              <p:cNvSpPr/>
              <p:nvPr/>
            </p:nvSpPr>
            <p:spPr>
              <a:xfrm>
                <a:off x="9248760" y="5914440"/>
                <a:ext cx="376560" cy="22680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</a:rPr>
                  <a:t>70%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оугольник 34"/>
              <p:cNvSpPr/>
              <p:nvPr/>
            </p:nvSpPr>
            <p:spPr>
              <a:xfrm>
                <a:off x="9248760" y="6141600"/>
                <a:ext cx="376560" cy="22536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</a:rPr>
                  <a:t>50%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оугольник 35"/>
              <p:cNvSpPr/>
              <p:nvPr/>
            </p:nvSpPr>
            <p:spPr>
              <a:xfrm>
                <a:off x="9248760" y="6366960"/>
                <a:ext cx="376560" cy="2253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</a:rPr>
                  <a:t>30%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Прямоугольник 36"/>
              <p:cNvSpPr/>
              <p:nvPr/>
            </p:nvSpPr>
            <p:spPr>
              <a:xfrm>
                <a:off x="9248760" y="6592320"/>
                <a:ext cx="376560" cy="2253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Объект 7" descr=""/>
          <p:cNvPicPr/>
          <p:nvPr/>
        </p:nvPicPr>
        <p:blipFill>
          <a:blip r:embed="rId1"/>
          <a:stretch/>
        </p:blipFill>
        <p:spPr>
          <a:xfrm>
            <a:off x="1440" y="85896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 hidden="1"/>
          <p:cNvSpPr/>
          <p:nvPr/>
        </p:nvSpPr>
        <p:spPr>
          <a:xfrm>
            <a:off x="0" y="85716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2" descr=""/>
          <p:cNvPicPr/>
          <p:nvPr/>
        </p:nvPicPr>
        <p:blipFill>
          <a:blip r:embed="rId2"/>
          <a:stretch/>
        </p:blipFill>
        <p:spPr>
          <a:xfrm>
            <a:off x="7431120" y="0"/>
            <a:ext cx="1712880" cy="2284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4" descr=""/>
          <p:cNvPicPr/>
          <p:nvPr/>
        </p:nvPicPr>
        <p:blipFill>
          <a:blip r:embed="rId3"/>
          <a:srcRect l="42" t="0" r="42" b="0"/>
          <a:stretch/>
        </p:blipFill>
        <p:spPr>
          <a:xfrm>
            <a:off x="7431120" y="2286000"/>
            <a:ext cx="171288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372960" y="2401920"/>
            <a:ext cx="67690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действий  персонала и служ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учебных тревог по ПМ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48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ссия проводит оценку действий персонала и  служ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роведении учебных тревог по ПМЛА и эвак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первого заметивш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ет алгоритм действий при нештатной ситу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пецслужб (газоспасателей, дежурного караула ПЧ, скорой помощи). Встречающий должен указать маршрут следования, характер аварии, наличие или отсутствие пострадавши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6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а в оператор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ает распоряжения по организации оцепления опасной зоны и встрече спецслужб. Дает команду персоналу по необходимым действиям по локализации ава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пульте в операторной выполняет необходимые технологические действия в соответствии с  ПМ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петчера производствен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петчер организовывает оповещение всех служб и руководителей в соответствии с ПМЛА (указывает точное место и характер аварии): ГСО, ПЧ, скорой помощи, сообщить руководителю и др. в соответствии с ПМ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ромкоговорящей связи (для АБК): оповещает об аварии весь находящийся на объекте персонал, дает распоряжение  прекратить все виды работ и покинуть опасную зону лицам, не связанным с ликвидацией ава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05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а по месту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ет точное место аварии, отсекает аварийный участ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ет первичные средства пожаротушения: подает пар,  приводит в действие огнетушители (при необходимост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пожара организовывает охлаждение оборудования (приводит в действие лафетную установку и др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 изолирующего противогаза  в загазованной зо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равные средства связи по месту, наличие переносной 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персона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цеплению опас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ы и встрече спецслуж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ы выставляются на пересечении дорог с учетом исключения проникновения в опасную зону лиц  и транспорта, не участвующих в ликвидации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442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ссия проводит оценку действий персонала и  служ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роведении учебных тревог по ПМЛА и эваку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жарной служб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воевременного прибытия по сигналу тревог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 заезда в зависимости от метеоуслов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и должны прибыть и разместиться с наветренной стороны вблизи аварийного объекта  вне пределов загазованной зо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служб по развертыванию средств пожароту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е боевое развертывание на месте происшествия не должно превышать 6-8 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8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жаре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ая подача первой струи на охлажде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организовывать охлаждение оборудования, попавшего в зону аварии. Очередность охлаждения соседнего оборудования должна быть  определена в зависимости от направления ветра. Обращать особое внимание на защиту запорной арматуры и фланцевых соединен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тушения при наличии электрооборудования в зоне загор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тушению приступают после получения письменного  «Разрешения на проведение работ по пожаротушению на эл. оборудовании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газоспас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воевременного прибытия по сигналу тревог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 заезда в зависимости от метеоуслов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ь должен прибыть и разместиться с наветренной стороны вблизи аварийного объекта  вне пределов загазованной зо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ение должно иметь путевку на выезд, ПМЛА для данного объекта и аварийную карточку объек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мандном пункте должен вестись оперативный журнал работ по ликвидации авар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необходимого оснащения для ликвидации аварийной ситу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ы открытого и закрытого типа; аппараты на сжатом воздухе ПТС; шланговые противогазы; средства связи; аккумуляторные светильники во взрывозащищенном исполнении; газоанализатор; набор прокладок; набор хомутов, заглушек; ключи гаеч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необходимого оснащения для оказания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мощи пострадавшим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ы искусственной вентиляции легких (ИВЛ); медицинская сумка отделения; носилки санитарные склад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7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пределять зону загазован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ют отбор проб в соответствии с полученными указаниями, а также обязательно производят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 анализа возд. среды  в месте обнаружения пострадавшего (у головы пострадавшего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 анализа возд. среды  в месте выполнения работ, перед выходом из загазованной з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-9360"/>
          <a:ext cx="9144000" cy="456876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442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ссия проводит оценку действий персонала и  служ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роведении учебных тревог по ПМЛА и эваку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скорой помощ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воевременного прибытия по сигналу тревог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 заезда в зависимости от метеоуслов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ь должен прибыть и разместиться с наветренной стороны вблизи аварийного объекта  вне пределов загазованной зоны (в районе размещения командного пункта газоспасателей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средств оказания помощи. Действие служб по оказанию помощи пострадавшему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 rowSpan="9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действий ответственного руководителя рабо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ает диспетчеру ПДО, вызывает АСФ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ет место сбора оперативного штаба по ликвидации аварии и дает указание об остановке блока, перекрытии арматуры на границах бло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ет количество и местонахождение людей, находящихся в зоне и вне зоны аварии и организует работу по эвакуации персонала и автотранспорта из опасной зо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ет проведение операций по локализации и ликвидации последствий аварий в опасной зоне силами членов нештатного аварийно-спасательного формирования (НГСФ) из состава эксплуатационного персон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ет оцепление опасной зоны  и встречу аварийно-спасательных формирован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ет в письменном виде допуск для тушения пожара в электроустановках начальнику подразделения П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 ремонтно-восстановительными работа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8" name="Прямоугольник 3"/>
          <p:cNvSpPr/>
          <p:nvPr/>
        </p:nvSpPr>
        <p:spPr>
          <a:xfrm>
            <a:off x="0" y="4643280"/>
            <a:ext cx="9144000" cy="30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963720" y="4643280"/>
            <a:ext cx="70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ПРЕДЕЛЕНИЕ ИТОГОВОЙ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-36360" y="4869000"/>
            <a:ext cx="9145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ждый член комиссии проводит оценку правильности действий персонала и служ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тоговый результат определяется как удовлетворительный при отсутствии замечаний к персоналу или служ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амечаний к персоналу или службе – удовлетворит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замечаний к персоналу или службе  - неудовлетвори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более 2 неудовлетворительных оценок к персоналу или службе, учебная тренировка проигрывается повтор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исимова Лилия Айратовна</dc:creator>
  <dc:description/>
  <dc:language>en-US</dc:language>
  <cp:lastModifiedBy>Халяпова Лилия Айратовна</cp:lastModifiedBy>
  <cp:lastPrinted>2016-05-16T10:00:08Z</cp:lastPrinted>
  <dcterms:modified xsi:type="dcterms:W3CDTF">2024-06-21T10:27:06Z</dcterms:modified>
  <cp:revision>185</cp:revision>
  <dc:subject/>
  <dc:title>Слайд 1</dc:title>
</cp:coreProperties>
</file>