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907588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33F85-01CB-49EB-8838-67F49A05E8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360" y="109440"/>
            <a:ext cx="917424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1396800"/>
            <a:ext cx="891540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5000" y="3869640"/>
            <a:ext cx="891540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B996A-FC59-4BC7-A9C6-CB667CFDFE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360" y="109440"/>
            <a:ext cx="917424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1396800"/>
            <a:ext cx="435060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63400" y="1396800"/>
            <a:ext cx="435060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95000" y="3869640"/>
            <a:ext cx="435060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063400" y="3869640"/>
            <a:ext cx="435060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9219E-9255-4474-BE13-C41B893B55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360" y="109440"/>
            <a:ext cx="917424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000" y="1396800"/>
            <a:ext cx="287064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09640" y="1396800"/>
            <a:ext cx="287064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24280" y="1396800"/>
            <a:ext cx="287064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95000" y="3869640"/>
            <a:ext cx="287064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09640" y="3869640"/>
            <a:ext cx="287064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24280" y="3869640"/>
            <a:ext cx="287064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90D9A-82D1-44A9-8EDA-9D82AD0D67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9A82F-9F0C-4678-B90C-A4AE01A677D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360" y="109440"/>
            <a:ext cx="917424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95000" y="1396800"/>
            <a:ext cx="8915400" cy="47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341A8-66C9-49FE-B3CF-2714BFC6AB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360" y="109440"/>
            <a:ext cx="917424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396800"/>
            <a:ext cx="891540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5551D-346A-4F0B-89D8-5CCC99F447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360" y="109440"/>
            <a:ext cx="917424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396800"/>
            <a:ext cx="435060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396800"/>
            <a:ext cx="435060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A3BF3-C5DE-4EC7-8952-5DDE2E0990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109440"/>
            <a:ext cx="917424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262C7-7F12-4DC2-ABF0-23FE6A1516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95360" y="109440"/>
            <a:ext cx="917424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8BDEF-6E9C-4BA2-9932-7741B381CD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360" y="109440"/>
            <a:ext cx="917424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396800"/>
            <a:ext cx="435060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3400" y="1396800"/>
            <a:ext cx="435060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5000" y="3869640"/>
            <a:ext cx="435060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C7F2B-3F0F-4F18-9FE2-14A6FF6C9F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109440"/>
            <a:ext cx="917424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95000" y="1396800"/>
            <a:ext cx="8915400" cy="47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542A5-5840-452B-9CBF-D654611992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109440"/>
            <a:ext cx="917424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396800"/>
            <a:ext cx="435060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396800"/>
            <a:ext cx="435060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063400" y="3869640"/>
            <a:ext cx="435060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DD423-E248-4CA5-BB06-DC06544494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360" y="109440"/>
            <a:ext cx="917424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000" y="1396800"/>
            <a:ext cx="435060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63400" y="1396800"/>
            <a:ext cx="435060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95000" y="3869640"/>
            <a:ext cx="891540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CFE11-D7DA-4537-8240-206A29CCCF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360" y="109440"/>
            <a:ext cx="917424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000" y="1396800"/>
            <a:ext cx="891540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5000" y="3869640"/>
            <a:ext cx="891540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34BD6-DEDB-492D-9574-C88DD0E1C2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360" y="109440"/>
            <a:ext cx="917424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000" y="1396800"/>
            <a:ext cx="435060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63400" y="1396800"/>
            <a:ext cx="435060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95000" y="3869640"/>
            <a:ext cx="435060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063400" y="3869640"/>
            <a:ext cx="435060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2D848-68C1-4F19-B75A-0D5A85A7B4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109440"/>
            <a:ext cx="917424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396800"/>
            <a:ext cx="287064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509640" y="1396800"/>
            <a:ext cx="287064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24280" y="1396800"/>
            <a:ext cx="287064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5000" y="3869640"/>
            <a:ext cx="287064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509640" y="3869640"/>
            <a:ext cx="287064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524280" y="3869640"/>
            <a:ext cx="287064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BEE96-482C-48D8-BCDC-E87C257509A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DF37-1BF8-4580-B164-102D3111EF7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5360" y="109440"/>
            <a:ext cx="917424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95000" y="1396800"/>
            <a:ext cx="8915400" cy="47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E5A1-DD34-49FB-849D-90E1607071D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360" y="109440"/>
            <a:ext cx="917424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396800"/>
            <a:ext cx="891540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9989-D6E1-4C9D-833A-B5CE98A0090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360" y="109440"/>
            <a:ext cx="917424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000" y="1396800"/>
            <a:ext cx="435060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63400" y="1396800"/>
            <a:ext cx="435060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2BB6-75A3-4C55-B384-22B84865F09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360" y="109440"/>
            <a:ext cx="917424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D63D-C552-46A5-A793-5BAC320C94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109440"/>
            <a:ext cx="917424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396800"/>
            <a:ext cx="891540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1ACBE-09DB-4C72-8696-01764775BC4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95360" y="109440"/>
            <a:ext cx="917424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F900-4D15-4F0A-8A0E-F3289F5848C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360" y="109440"/>
            <a:ext cx="917424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000" y="1396800"/>
            <a:ext cx="435060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63400" y="1396800"/>
            <a:ext cx="435060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95000" y="3869640"/>
            <a:ext cx="435060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5A42-CCE8-4901-B67F-86A058FF42C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109440"/>
            <a:ext cx="917424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5000" y="1396800"/>
            <a:ext cx="435060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63400" y="1396800"/>
            <a:ext cx="435060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063400" y="3869640"/>
            <a:ext cx="435060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4E12-548A-4A02-A511-12DEC68F9C1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5360" y="109440"/>
            <a:ext cx="917424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95000" y="1396800"/>
            <a:ext cx="435060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63400" y="1396800"/>
            <a:ext cx="435060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5000" y="3869640"/>
            <a:ext cx="891540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F72B-C2D0-492D-916D-55880CC490B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360" y="109440"/>
            <a:ext cx="917424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5000" y="1396800"/>
            <a:ext cx="891540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5000" y="3869640"/>
            <a:ext cx="891540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9C80-C358-496A-AE20-5F138EEF45E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09440"/>
            <a:ext cx="917424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5000" y="1396800"/>
            <a:ext cx="435060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63400" y="1396800"/>
            <a:ext cx="435060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95000" y="3869640"/>
            <a:ext cx="435060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063400" y="3869640"/>
            <a:ext cx="435060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8AC0-6DB0-4A43-9592-E8105A034E6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360" y="109440"/>
            <a:ext cx="917424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5000" y="1396800"/>
            <a:ext cx="287064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509640" y="1396800"/>
            <a:ext cx="287064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524280" y="1396800"/>
            <a:ext cx="287064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95000" y="3869640"/>
            <a:ext cx="287064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509640" y="3869640"/>
            <a:ext cx="287064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524280" y="3869640"/>
            <a:ext cx="287064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D2B9-5B8E-474F-8CE4-D13D62B1BB8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9C11E4-3FA1-4C80-AF89-B493E4D3CEF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360" y="109440"/>
            <a:ext cx="917424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95000" y="1396800"/>
            <a:ext cx="8915400" cy="47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567209-0185-4674-A3E8-E507FDC74DC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360" y="109440"/>
            <a:ext cx="917424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5000" y="1396800"/>
            <a:ext cx="891540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89890B-A251-40D8-BE03-D62F7AE2E4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109440"/>
            <a:ext cx="917424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396800"/>
            <a:ext cx="435060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400" y="1396800"/>
            <a:ext cx="435060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B1A53-CAE8-4A81-A0CE-2302A3889BE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5360" y="109440"/>
            <a:ext cx="917424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5000" y="1396800"/>
            <a:ext cx="435060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63400" y="1396800"/>
            <a:ext cx="435060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21D970-C539-416F-A2F7-E077993D1A4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360" y="109440"/>
            <a:ext cx="917424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3B61C4-3C5E-4FEE-A6F6-863AE766737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95360" y="109440"/>
            <a:ext cx="917424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3EC611-667D-4686-8F9E-E346D38023B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5360" y="109440"/>
            <a:ext cx="917424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5000" y="1396800"/>
            <a:ext cx="435060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63400" y="1396800"/>
            <a:ext cx="435060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95000" y="3869640"/>
            <a:ext cx="435060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9B2167-493C-4CD4-9BF2-81CCA78FA1F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360" y="109440"/>
            <a:ext cx="917424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5000" y="1396800"/>
            <a:ext cx="435060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63400" y="1396800"/>
            <a:ext cx="435060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63400" y="3869640"/>
            <a:ext cx="435060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3C3667-D244-45CA-8414-82B39ED96EC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360" y="109440"/>
            <a:ext cx="917424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5000" y="1396800"/>
            <a:ext cx="435060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63400" y="1396800"/>
            <a:ext cx="435060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95000" y="3869640"/>
            <a:ext cx="891540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997986-6C3C-4055-A2F6-26ECC27652A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5360" y="109440"/>
            <a:ext cx="917424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95000" y="1396800"/>
            <a:ext cx="891540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5000" y="3869640"/>
            <a:ext cx="891540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4D347-F9AE-4540-A7A5-F0C8F92A5A8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360" y="109440"/>
            <a:ext cx="917424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5000" y="1396800"/>
            <a:ext cx="435060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63400" y="1396800"/>
            <a:ext cx="435060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95000" y="3869640"/>
            <a:ext cx="435060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063400" y="3869640"/>
            <a:ext cx="435060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88FB4E-232A-49CF-888A-7A1B7C87824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5360" y="109440"/>
            <a:ext cx="917424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5000" y="1396800"/>
            <a:ext cx="287064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509640" y="1396800"/>
            <a:ext cx="287064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524280" y="1396800"/>
            <a:ext cx="287064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95000" y="3869640"/>
            <a:ext cx="287064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509640" y="3869640"/>
            <a:ext cx="287064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524280" y="3869640"/>
            <a:ext cx="287064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21D381-750E-460A-A878-1B1CCDBF95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109440"/>
            <a:ext cx="917424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AA6CA-1BB0-4DC8-A882-8A73BAA7E5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95360" y="109440"/>
            <a:ext cx="917424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0FBCF-C3A1-4136-8AD0-8E4FCCF3D6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360" y="109440"/>
            <a:ext cx="917424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396800"/>
            <a:ext cx="435060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400" y="1396800"/>
            <a:ext cx="435060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000" y="3869640"/>
            <a:ext cx="435060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F0CEF-2E4A-4430-BB9F-2735F18CBD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109440"/>
            <a:ext cx="917424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396800"/>
            <a:ext cx="435060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400" y="1396800"/>
            <a:ext cx="435060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63400" y="3869640"/>
            <a:ext cx="435060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FF760-9780-4DD3-A464-B814527BAD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360" y="109440"/>
            <a:ext cx="917424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396800"/>
            <a:ext cx="435060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396800"/>
            <a:ext cx="435060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869640"/>
            <a:ext cx="8915400" cy="22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46883-5BBA-4669-9C85-EE2E556FCF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1440" y="-28440"/>
            <a:ext cx="9955440" cy="6561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360" y="109440"/>
            <a:ext cx="917424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000" y="1396800"/>
            <a:ext cx="891540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51"/>
              </a:spcBef>
              <a:buClr>
                <a:srgbClr val="0808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5960">
              <a:spcBef>
                <a:spcPts val="45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5680" indent="-29196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90520">
              <a:spcBef>
                <a:spcPts val="451"/>
              </a:spcBef>
              <a:buClr>
                <a:srgbClr val="0808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96960" indent="-314280">
              <a:spcBef>
                <a:spcPts val="451"/>
              </a:spcBef>
              <a:buClr>
                <a:srgbClr val="f8f8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96960" indent="-314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96960" indent="-314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290520" y="6504120"/>
            <a:ext cx="534960" cy="31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A757-6B87-42CF-AE86-4A930BABFC74}" type="slidenum">
              <a:rPr b="0" lang="ru-RU" sz="12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9"/>
          <p:cNvSpPr/>
          <p:nvPr/>
        </p:nvSpPr>
        <p:spPr>
          <a:xfrm>
            <a:off x="10077480" y="109440"/>
            <a:ext cx="663480" cy="5828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0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128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128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10077480" y="1274760"/>
            <a:ext cx="663480" cy="584280"/>
          </a:xfrm>
          <a:prstGeom prst="rect">
            <a:avLst/>
          </a:prstGeom>
          <a:solidFill>
            <a:srgbClr val="d0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208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208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208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10077480" y="692280"/>
            <a:ext cx="663480" cy="582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153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204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0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Рисунок 1" descr=""/>
          <p:cNvPicPr/>
          <p:nvPr/>
        </p:nvPicPr>
        <p:blipFill>
          <a:blip r:embed="rId3"/>
          <a:stretch/>
        </p:blipFill>
        <p:spPr>
          <a:xfrm>
            <a:off x="8075520" y="6523200"/>
            <a:ext cx="1212840" cy="261720"/>
          </a:xfrm>
          <a:prstGeom prst="rect">
            <a:avLst/>
          </a:prstGeom>
          <a:ln w="0">
            <a:noFill/>
          </a:ln>
        </p:spPr>
      </p:pic>
      <p:sp>
        <p:nvSpPr>
          <p:cNvPr id="8" name="Прямоугольник 18"/>
          <p:cNvSpPr/>
          <p:nvPr/>
        </p:nvSpPr>
        <p:spPr>
          <a:xfrm>
            <a:off x="10077480" y="4508640"/>
            <a:ext cx="663480" cy="582480"/>
          </a:xfrm>
          <a:prstGeom prst="rect">
            <a:avLst/>
          </a:prstGeom>
          <a:solidFill>
            <a:srgbClr val="e5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229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242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242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19"/>
          <p:cNvSpPr/>
          <p:nvPr/>
        </p:nvSpPr>
        <p:spPr>
          <a:xfrm>
            <a:off x="10077480" y="2182680"/>
            <a:ext cx="663480" cy="584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242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242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242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20"/>
          <p:cNvSpPr/>
          <p:nvPr/>
        </p:nvSpPr>
        <p:spPr>
          <a:xfrm>
            <a:off x="10077480" y="2760840"/>
            <a:ext cx="663480" cy="582480"/>
          </a:xfrm>
          <a:prstGeom prst="rect">
            <a:avLst/>
          </a:prstGeom>
          <a:solidFill>
            <a:srgbClr val="b2d2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178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210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216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21"/>
          <p:cNvSpPr/>
          <p:nvPr/>
        </p:nvSpPr>
        <p:spPr>
          <a:xfrm>
            <a:off x="10077480" y="3343320"/>
            <a:ext cx="663480" cy="582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255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22"/>
          <p:cNvSpPr/>
          <p:nvPr/>
        </p:nvSpPr>
        <p:spPr>
          <a:xfrm>
            <a:off x="10077480" y="3925800"/>
            <a:ext cx="663480" cy="5828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192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0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0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Прямоугольник 23"/>
          <p:cNvSpPr/>
          <p:nvPr/>
        </p:nvSpPr>
        <p:spPr>
          <a:xfrm>
            <a:off x="10077480" y="5091120"/>
            <a:ext cx="663480" cy="584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128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128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128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Прямоугольник 15"/>
          <p:cNvSpPr/>
          <p:nvPr/>
        </p:nvSpPr>
        <p:spPr>
          <a:xfrm>
            <a:off x="10077480" y="5675400"/>
            <a:ext cx="663480" cy="584280"/>
          </a:xfrm>
          <a:prstGeom prst="rect">
            <a:avLst/>
          </a:prstGeom>
          <a:solidFill>
            <a:srgbClr val="f58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245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138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1440" y="-28440"/>
            <a:ext cx="9955440" cy="6561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9"/>
          <p:cNvSpPr/>
          <p:nvPr/>
        </p:nvSpPr>
        <p:spPr>
          <a:xfrm>
            <a:off x="10077480" y="109440"/>
            <a:ext cx="663480" cy="5828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0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128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128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1"/>
          <p:cNvSpPr/>
          <p:nvPr/>
        </p:nvSpPr>
        <p:spPr>
          <a:xfrm>
            <a:off x="10077480" y="1274760"/>
            <a:ext cx="663480" cy="584280"/>
          </a:xfrm>
          <a:prstGeom prst="rect">
            <a:avLst/>
          </a:prstGeom>
          <a:solidFill>
            <a:srgbClr val="d0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208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208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208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077480" y="692280"/>
            <a:ext cx="663480" cy="582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153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204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0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1" descr=""/>
          <p:cNvPicPr/>
          <p:nvPr/>
        </p:nvPicPr>
        <p:blipFill>
          <a:blip r:embed="rId3"/>
          <a:stretch/>
        </p:blipFill>
        <p:spPr>
          <a:xfrm>
            <a:off x="8075520" y="6523200"/>
            <a:ext cx="1212840" cy="2617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18"/>
          <p:cNvSpPr/>
          <p:nvPr/>
        </p:nvSpPr>
        <p:spPr>
          <a:xfrm>
            <a:off x="10077480" y="4508640"/>
            <a:ext cx="663480" cy="582480"/>
          </a:xfrm>
          <a:prstGeom prst="rect">
            <a:avLst/>
          </a:prstGeom>
          <a:solidFill>
            <a:srgbClr val="e5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229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242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242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9"/>
          <p:cNvSpPr/>
          <p:nvPr/>
        </p:nvSpPr>
        <p:spPr>
          <a:xfrm>
            <a:off x="10077480" y="2182680"/>
            <a:ext cx="663480" cy="584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242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242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242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0"/>
          <p:cNvSpPr/>
          <p:nvPr/>
        </p:nvSpPr>
        <p:spPr>
          <a:xfrm>
            <a:off x="10077480" y="2760840"/>
            <a:ext cx="663480" cy="582480"/>
          </a:xfrm>
          <a:prstGeom prst="rect">
            <a:avLst/>
          </a:prstGeom>
          <a:solidFill>
            <a:srgbClr val="b2d2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178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210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216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21"/>
          <p:cNvSpPr/>
          <p:nvPr/>
        </p:nvSpPr>
        <p:spPr>
          <a:xfrm>
            <a:off x="10077480" y="3343320"/>
            <a:ext cx="663480" cy="582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255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22"/>
          <p:cNvSpPr/>
          <p:nvPr/>
        </p:nvSpPr>
        <p:spPr>
          <a:xfrm>
            <a:off x="10077480" y="3925800"/>
            <a:ext cx="663480" cy="5828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192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0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0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3"/>
          <p:cNvSpPr/>
          <p:nvPr/>
        </p:nvSpPr>
        <p:spPr>
          <a:xfrm>
            <a:off x="10077480" y="5091120"/>
            <a:ext cx="663480" cy="584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128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128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128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5"/>
          <p:cNvSpPr/>
          <p:nvPr/>
        </p:nvSpPr>
        <p:spPr>
          <a:xfrm>
            <a:off x="10077480" y="5675400"/>
            <a:ext cx="663480" cy="584280"/>
          </a:xfrm>
          <a:prstGeom prst="rect">
            <a:avLst/>
          </a:prstGeom>
          <a:solidFill>
            <a:srgbClr val="f58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245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138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495360" y="109440"/>
            <a:ext cx="917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разец заголов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109440"/>
            <a:ext cx="917424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95000" y="1396800"/>
            <a:ext cx="891540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51"/>
              </a:spcBef>
              <a:buClr>
                <a:srgbClr val="0808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5960">
              <a:spcBef>
                <a:spcPts val="45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5680" indent="-29196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90520">
              <a:spcBef>
                <a:spcPts val="451"/>
              </a:spcBef>
              <a:buClr>
                <a:srgbClr val="0808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96960" indent="-314280">
              <a:spcBef>
                <a:spcPts val="451"/>
              </a:spcBef>
              <a:buClr>
                <a:srgbClr val="f8f8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96960" indent="-314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96960" indent="-314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2"/>
          </p:nvPr>
        </p:nvSpPr>
        <p:spPr>
          <a:xfrm>
            <a:off x="290520" y="6504120"/>
            <a:ext cx="534960" cy="31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9890-EE5F-4E88-8369-AD388F29D410}" type="slidenum">
              <a:rPr b="0" lang="ru-RU" sz="12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2"/>
          <a:stretch/>
        </p:blipFill>
        <p:spPr>
          <a:xfrm>
            <a:off x="1440" y="-28440"/>
            <a:ext cx="9955440" cy="65610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9"/>
          <p:cNvSpPr/>
          <p:nvPr/>
        </p:nvSpPr>
        <p:spPr>
          <a:xfrm>
            <a:off x="10077480" y="109440"/>
            <a:ext cx="663480" cy="5828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0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128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128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10077480" y="1274760"/>
            <a:ext cx="663480" cy="584280"/>
          </a:xfrm>
          <a:prstGeom prst="rect">
            <a:avLst/>
          </a:prstGeom>
          <a:solidFill>
            <a:srgbClr val="d0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208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208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208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10077480" y="692280"/>
            <a:ext cx="663480" cy="582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153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204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0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1" descr=""/>
          <p:cNvPicPr/>
          <p:nvPr/>
        </p:nvPicPr>
        <p:blipFill>
          <a:blip r:embed="rId3"/>
          <a:stretch/>
        </p:blipFill>
        <p:spPr>
          <a:xfrm>
            <a:off x="8075520" y="6523200"/>
            <a:ext cx="1212840" cy="26172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18"/>
          <p:cNvSpPr/>
          <p:nvPr/>
        </p:nvSpPr>
        <p:spPr>
          <a:xfrm>
            <a:off x="10077480" y="4508640"/>
            <a:ext cx="663480" cy="582480"/>
          </a:xfrm>
          <a:prstGeom prst="rect">
            <a:avLst/>
          </a:prstGeom>
          <a:solidFill>
            <a:srgbClr val="e5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229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242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242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9"/>
          <p:cNvSpPr/>
          <p:nvPr/>
        </p:nvSpPr>
        <p:spPr>
          <a:xfrm>
            <a:off x="10077480" y="2182680"/>
            <a:ext cx="663480" cy="584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242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242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242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20"/>
          <p:cNvSpPr/>
          <p:nvPr/>
        </p:nvSpPr>
        <p:spPr>
          <a:xfrm>
            <a:off x="10077480" y="2760840"/>
            <a:ext cx="663480" cy="582480"/>
          </a:xfrm>
          <a:prstGeom prst="rect">
            <a:avLst/>
          </a:prstGeom>
          <a:solidFill>
            <a:srgbClr val="b2d2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178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210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216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21"/>
          <p:cNvSpPr/>
          <p:nvPr/>
        </p:nvSpPr>
        <p:spPr>
          <a:xfrm>
            <a:off x="10077480" y="3343320"/>
            <a:ext cx="663480" cy="582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255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22"/>
          <p:cNvSpPr/>
          <p:nvPr/>
        </p:nvSpPr>
        <p:spPr>
          <a:xfrm>
            <a:off x="10077480" y="3925800"/>
            <a:ext cx="663480" cy="5828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192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0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0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23"/>
          <p:cNvSpPr/>
          <p:nvPr/>
        </p:nvSpPr>
        <p:spPr>
          <a:xfrm>
            <a:off x="10077480" y="5091120"/>
            <a:ext cx="663480" cy="584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128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128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128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5"/>
          <p:cNvSpPr/>
          <p:nvPr/>
        </p:nvSpPr>
        <p:spPr>
          <a:xfrm>
            <a:off x="10077480" y="5675400"/>
            <a:ext cx="663480" cy="584280"/>
          </a:xfrm>
          <a:prstGeom prst="rect">
            <a:avLst/>
          </a:prstGeom>
          <a:solidFill>
            <a:srgbClr val="f58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245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138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Заголовок 1"/>
          <p:cNvSpPr/>
          <p:nvPr/>
        </p:nvSpPr>
        <p:spPr>
          <a:xfrm>
            <a:off x="495360" y="109440"/>
            <a:ext cx="917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разец заголов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360" y="109440"/>
            <a:ext cx="917424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95000" y="1396800"/>
            <a:ext cx="891540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51"/>
              </a:spcBef>
              <a:buClr>
                <a:srgbClr val="0808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5960">
              <a:spcBef>
                <a:spcPts val="45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5680" indent="-29196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90520">
              <a:spcBef>
                <a:spcPts val="451"/>
              </a:spcBef>
              <a:buClr>
                <a:srgbClr val="0808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96960" indent="-314280">
              <a:spcBef>
                <a:spcPts val="451"/>
              </a:spcBef>
              <a:buClr>
                <a:srgbClr val="f8f8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96960" indent="-314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96960" indent="-314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3"/>
          </p:nvPr>
        </p:nvSpPr>
        <p:spPr>
          <a:xfrm>
            <a:off x="290520" y="6504120"/>
            <a:ext cx="534960" cy="31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9D59-B868-4CEF-B91F-EECBBB1FAB7E}" type="slidenum">
              <a:rPr b="0" lang="ru-RU" sz="12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2"/>
          <a:stretch/>
        </p:blipFill>
        <p:spPr>
          <a:xfrm>
            <a:off x="1440" y="-28440"/>
            <a:ext cx="9955440" cy="656100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9"/>
          <p:cNvSpPr/>
          <p:nvPr/>
        </p:nvSpPr>
        <p:spPr>
          <a:xfrm>
            <a:off x="10077480" y="109440"/>
            <a:ext cx="663480" cy="5828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0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128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128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1"/>
          <p:cNvSpPr/>
          <p:nvPr/>
        </p:nvSpPr>
        <p:spPr>
          <a:xfrm>
            <a:off x="10077480" y="1274760"/>
            <a:ext cx="663480" cy="584280"/>
          </a:xfrm>
          <a:prstGeom prst="rect">
            <a:avLst/>
          </a:prstGeom>
          <a:solidFill>
            <a:srgbClr val="d0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208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208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208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14"/>
          <p:cNvSpPr/>
          <p:nvPr/>
        </p:nvSpPr>
        <p:spPr>
          <a:xfrm>
            <a:off x="10077480" y="692280"/>
            <a:ext cx="663480" cy="582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153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204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0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Рисунок 1" descr=""/>
          <p:cNvPicPr/>
          <p:nvPr/>
        </p:nvPicPr>
        <p:blipFill>
          <a:blip r:embed="rId3"/>
          <a:stretch/>
        </p:blipFill>
        <p:spPr>
          <a:xfrm>
            <a:off x="8075520" y="6523200"/>
            <a:ext cx="1212840" cy="26172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18"/>
          <p:cNvSpPr/>
          <p:nvPr/>
        </p:nvSpPr>
        <p:spPr>
          <a:xfrm>
            <a:off x="10077480" y="4508640"/>
            <a:ext cx="663480" cy="582480"/>
          </a:xfrm>
          <a:prstGeom prst="rect">
            <a:avLst/>
          </a:prstGeom>
          <a:solidFill>
            <a:srgbClr val="e5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229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242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242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9"/>
          <p:cNvSpPr/>
          <p:nvPr/>
        </p:nvSpPr>
        <p:spPr>
          <a:xfrm>
            <a:off x="10077480" y="2182680"/>
            <a:ext cx="663480" cy="584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242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242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242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0"/>
          <p:cNvSpPr/>
          <p:nvPr/>
        </p:nvSpPr>
        <p:spPr>
          <a:xfrm>
            <a:off x="10077480" y="2760840"/>
            <a:ext cx="663480" cy="582480"/>
          </a:xfrm>
          <a:prstGeom prst="rect">
            <a:avLst/>
          </a:prstGeom>
          <a:solidFill>
            <a:srgbClr val="b2d2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178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210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216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21"/>
          <p:cNvSpPr/>
          <p:nvPr/>
        </p:nvSpPr>
        <p:spPr>
          <a:xfrm>
            <a:off x="10077480" y="3343320"/>
            <a:ext cx="663480" cy="582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255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22"/>
          <p:cNvSpPr/>
          <p:nvPr/>
        </p:nvSpPr>
        <p:spPr>
          <a:xfrm>
            <a:off x="10077480" y="3925800"/>
            <a:ext cx="663480" cy="5828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192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0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0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23"/>
          <p:cNvSpPr/>
          <p:nvPr/>
        </p:nvSpPr>
        <p:spPr>
          <a:xfrm>
            <a:off x="10077480" y="5091120"/>
            <a:ext cx="663480" cy="584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128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128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128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5"/>
          <p:cNvSpPr/>
          <p:nvPr/>
        </p:nvSpPr>
        <p:spPr>
          <a:xfrm>
            <a:off x="10077480" y="5675400"/>
            <a:ext cx="663480" cy="584280"/>
          </a:xfrm>
          <a:prstGeom prst="rect">
            <a:avLst/>
          </a:prstGeom>
          <a:solidFill>
            <a:srgbClr val="f58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245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138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Заголовок 1"/>
          <p:cNvSpPr/>
          <p:nvPr/>
        </p:nvSpPr>
        <p:spPr>
          <a:xfrm>
            <a:off x="495360" y="109440"/>
            <a:ext cx="917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разец заголов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5360" y="109440"/>
            <a:ext cx="917424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95000" y="1396800"/>
            <a:ext cx="891540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51"/>
              </a:spcBef>
              <a:buClr>
                <a:srgbClr val="0808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5960">
              <a:spcBef>
                <a:spcPts val="45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5680" indent="-29196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90520">
              <a:spcBef>
                <a:spcPts val="451"/>
              </a:spcBef>
              <a:buClr>
                <a:srgbClr val="0808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96960" indent="-314280">
              <a:spcBef>
                <a:spcPts val="451"/>
              </a:spcBef>
              <a:buClr>
                <a:srgbClr val="f8f8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96960" indent="-314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96960" indent="-314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4"/>
          </p:nvPr>
        </p:nvSpPr>
        <p:spPr>
          <a:xfrm>
            <a:off x="290520" y="6504120"/>
            <a:ext cx="534960" cy="31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6436-B39B-4AB3-9787-01A99DB83ED7}" type="slidenum">
              <a:rPr b="0" lang="ru-RU" sz="12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2400" y="109440"/>
            <a:ext cx="95472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ебования к управлению безопасностью подрядных организаций при выполнении работ на территории Заказч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Номер слайда 2"/>
          <p:cNvSpPr/>
          <p:nvPr/>
        </p:nvSpPr>
        <p:spPr>
          <a:xfrm>
            <a:off x="290520" y="6504120"/>
            <a:ext cx="534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2642-528D-48E8-BBCB-161C90E03FBF}" type="slidenum">
              <a:rPr b="0" lang="ru-RU" sz="12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290520" y="1860480"/>
          <a:ext cx="9271080" cy="2814840"/>
        </p:xfrm>
        <a:graphic>
          <a:graphicData uri="http://schemas.openxmlformats.org/drawingml/2006/table">
            <a:tbl>
              <a:tblPr/>
              <a:tblGrid>
                <a:gridCol w="760320"/>
                <a:gridCol w="8510760"/>
              </a:tblGrid>
              <a:tr h="427320"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рушения, за которые необходимо незамедлительно  удалить работника с территории Предприят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ушение Ключевых правил безопасност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8d8"/>
                    </a:solidFill>
                  </a:tcPr>
                </a:tc>
              </a:tr>
              <a:tr h="5479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ушение требований законодательства РФ или требований Заказчика в области ОТ, ПБ и Э или транспортной безопасности, повлекшее смерть любого находящегося на территории Предприятия лица (по итогам расследования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d"/>
                    </a:solidFill>
                  </a:tcPr>
                </a:tc>
              </a:tr>
              <a:tr h="3654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бое действие работников Подрядчика либо работников привлекаемых Подрядчиком третьих лиц, приведшее к аварии, пожару, инциденту на территории Предприятия (по итогам расследования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8d8"/>
                    </a:solidFill>
                  </a:tcPr>
                </a:tc>
              </a:tr>
              <a:tr h="5479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ушение требований законодательства РФ или требований Предприятия в области ОТ, ПБ и Э или транспортной безопасности, повлекшее причинение вреда любой степени тяжести здоровью любого находящегося на территории Заказчика лица (по итогам расследования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d"/>
                    </a:solidFill>
                  </a:tcPr>
                </a:tc>
              </a:tr>
              <a:tr h="3654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обновление Подрядчиком приостановленных ранее работ Предприятием до момента устранения выявленных нарушений в области ОТ, ПБ и Э, либо отказ от устранения нарушения в области ОТ, ПБ и Э и продолжение работ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8d8"/>
                    </a:solidFill>
                  </a:tcPr>
                </a:tc>
              </a:tr>
              <a:tr h="5479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ск к выполнению работ по Договору Подрядчиком и/или привлеченными им третьими лицами, работника без заключения трудового договора, а также непредоставление копии трудового договора работника по требованию Заказчик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удник Анастасия Александровна</dc:creator>
  <dc:description/>
  <dc:language>en-US</dc:language>
  <cp:lastModifiedBy>Люмьер Виктория Викторовна</cp:lastModifiedBy>
  <cp:lastPrinted>2020-01-13T03:42:03Z</cp:lastPrinted>
  <dcterms:modified xsi:type="dcterms:W3CDTF">2021-03-09T08:39:46Z</dcterms:modified>
  <cp:revision>5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